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23D-BE16-4EF8-857E-C46C5AAC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D6A-3093-4A98-BC2E-C260FEBB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9FD-D2DF-4E45-AD96-837C00E9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341-64B1-4A75-91B6-F78AADA2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DCE8-4DA2-432E-9D49-1EAC1EAC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A708-B0EE-4227-B96E-59BC4DC5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9432-750D-4692-BA74-43D51680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4365-146B-41AC-9A5C-4F57BDA7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E1CF-6F5E-4606-AD46-D979AE46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7A56-82A6-418C-933C-E2B967B4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48A1-011E-491F-9F66-3A16D98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7E4-4B3D-450F-9CFC-C06CD8F7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EC99-D297-48CA-AE13-63BDC9F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B796-A296-48B2-8BDB-936B7112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0069-5C94-44E2-8A75-BB0D4119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B0E5-9B49-4E1E-85E3-79629A9C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9C54-53B2-40CB-B75F-346BBC38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FB6-73ED-4D90-B511-7BD44F72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498-9CC2-417F-BF72-6CC7F77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2AC-0739-402E-A8C3-7D02C004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5B5-1FA6-4C9E-AB5A-2ACAF61F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1D4-B1F9-410E-9495-8B086AA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644-596E-4634-9D70-887A0FFA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992-DD01-41F0-9204-0A3CDE34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0C3B-3FE2-4217-9617-67C9EF439B4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C07F-F4F6-4C02-A58E-C965389FE3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2005 food crisis in Malawi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Innovative respon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sented b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ominique Blariau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lawi EU Dele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Unconditional Cash transfers Concern Worldwide experie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humanitarian response to a food shortage in Dowa district caused by poor rains, based on MVAC re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Improve access to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tter understand, demonstrate and document the market response to cash transfers in rural area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velop and refine cash delivery mod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Unconditional Cash transfers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W experie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rovide 10,000 HH  access their MF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Money given to wom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Adjusting the cash by households siz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Adjusting the cash monthly according to maize pr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livering using smart cards and mobile bank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understand what it takes to bring banking to the rural are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understand low-income individuals interaction with technology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create a system that is secure, transparent, flexible, scalable and developmentally positiv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Unconditional Cash transfers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W experie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link Gov’t, NGO, donor and private sector as partners in developmen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move decision making power to the poo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o give beneficiaries ownership and self este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esul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- Cash mainly use to purchase food, school fees, HH assets, fertiliser, repay deb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- decrease of borrowing amongst the receiv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ower of Smart Card Technolog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Biometric ID with Malswitch Search Engine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ard contains 25 wallets and can be used on closed group system tracking unit or currency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Off-line devices allow for remote access of value and control of transaction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Using existing private sector channels for input distribution and access (over 800 devices deployed in Malawi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entral electronic loading of value and payment to supplier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ull Financial Accountability and Data Reconciliatio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005 food crisis in Malaw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ext: chronic Poverty/Vulner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onsecutive food crisis (1999,2001,200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High HIV/AIDS preval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85% population dependent on agri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eclining soil fer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high climatic vari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weak gover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Only 3 week dry spells at critical moment for growth dvlpt and 4,9 million Malawian (44% pop) at risk of missing food entitlem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ational cereal deficit: 400 000 M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005 food crisi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innovative respon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lternative option for food distribution :  Government Distribution Sche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vernment Call option for 60 000 M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conditional/conditional Cash transfers (free cash distribution with the use of ‘smart card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ternative option for food distribution : WFP vs Gvt Schem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od security is chronic in Malawi, FI recurrent, Gvt’s leadership/ownership for responding to food crisi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eed to build capacity of Gv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FP monopoly thus distribution cost exorbitant (250US$/MT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partment of Poverty and disaster Management’s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ogistic unit financed by DFID to support the Depart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ternative option for food distribution : WFP vs Gvt Schem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U signed with NGOs to ensure distribution (same as WF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ct signed by Gvt (DFID funds) with WFP to train NGOs on monitoring/evaluation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distribution scheme set up in parallel to WFP sche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Malawi divided : Gvt scheme to distribute in part of center and North-WFP to distribute in part of center and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ternative option for food distribution : WFP vs Gvt Schem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FP transport cost reduced from 250US$ to 115 US$ (ar. 100$ for Gvt Schem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oth distribution went wel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yment to NGO done by Gvt (National budget, targeted  BS (Norway/DFID)) without major delays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acity of Gvt to manage food crisis increas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alleng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petition for tranport/Competition for maize: contribution by stakehlders mainly channeled through WFP/free food distribu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rket based option contract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 60 000 MT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 gap of 400 000 M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volatility in price of staple food, especially maiz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nsure availability of food at acceptable p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of importing in crisis (high price, import too much, too little, unclear signals (public, private sector, logist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awi secured additional supplies of Maize at capped price from South Africa Futures Exchange (SAFEX) to hedge against price vola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rket based option contract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 60 000 MT How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vt signed contract with Standard Bank of South Afric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yment of premium (DFID)(technical support WB) for right no obligation to buy up to 60 000 maize – including transport-at a price fixed at the time of the contract and within a set period of tim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ovided Gvt with mechanism to trigger additional imports at short notice with protection against risk of increase of pri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rket based option contract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 60 000 M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response to continued shortage of maize: Gvt exercised first tranche in October for 30 000 MT, second tranche in November 30000 MT. 40 000 MT for humanitarian distribu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mber maize price: $50 to $90 above ceiling 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9:56:59Z</dcterms:created>
  <dc:creator>visitor</dc:creator>
  <dc:description/>
  <dc:language>en-US</dc:language>
  <cp:lastModifiedBy>visitor</cp:lastModifiedBy>
  <dcterms:modified xsi:type="dcterms:W3CDTF">2007-03-13T09:30:01Z</dcterms:modified>
  <cp:revision>8</cp:revision>
  <dc:subject/>
  <dc:title> 2005 food crisis in Malawi  </dc:title>
</cp:coreProperties>
</file>